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11D-74EF-4FC2-9D4F-93C55A70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5EF-5F81-48DC-8FBF-100236F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6BC-7F8D-4038-9003-1E49BFCB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BBC-FC81-4E81-9A12-9AFCA31B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410EC-8470-4519-940C-A4D962E0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74A2-2746-4DE2-803B-6AADF578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E084-44C1-40F7-89EC-3310270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7934A-D84B-43B2-BA1A-C2A4A12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9397D-6EA0-4067-A5BE-80045224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D7700-3D00-4877-87AA-40B9EC4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1AFD-52F2-4996-8FDD-BBFE6EF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944-AA54-42D0-8487-A58AD65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1A3B2-A40B-4A80-8592-B04B928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9E6BF-4CE3-45B4-A428-12397EC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A933-856E-4563-B469-E2828BA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9D820-98EF-4C3D-81AE-AAF16675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07EAD-3D96-4F30-889D-C0111442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88E-D812-4D1E-B8FC-9A402B69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DF5-ED76-4C65-BC18-A4F29168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866-7FA4-40B9-9849-4770610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9CB-ECA4-431F-9869-75D18E3F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39D-FB5B-48D0-9F34-C7062B2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8C4-33A8-4051-BF79-13B7547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157-C75D-4F9D-8C9B-859C200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FB0-B82C-4108-BD15-AC671DA94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4F13-9B6A-4D46-A65A-229F91A04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free-extras.com/images/pizza-894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s Comidia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Filip Coo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Desayun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 el desayun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71432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3640" y="437508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324480" y="45720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00600" y="457200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438280" y="2438280"/>
            <a:ext cx="194328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343400" y="2438280"/>
            <a:ext cx="200988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324480" y="2438280"/>
            <a:ext cx="188604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41907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nqueques con pedacito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tts_flash"/>
          <p:cNvGraphicFramePr/>
          <p:nvPr/>
        </p:nvGraphicFramePr>
        <p:xfrm>
          <a:off x="3228840" y="3246480"/>
          <a:ext cx="206640" cy="20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tts_flash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28840" y="3246480"/>
                    <a:ext cx="206640" cy="206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14600" y="4266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1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rosquill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266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za de fr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0" y="6171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go de naran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6216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colate con le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Almuerz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5146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858000" y="2514600"/>
            <a:ext cx="19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086600" y="5029200"/>
            <a:ext cx="14842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5111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mburgues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723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z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51160" y="46476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16840" y="46476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b itali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90000" y="6490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la cena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029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934320" y="2666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457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le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0280" y="4571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h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30360" y="4571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tel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83080" y="45712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llo mars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86600" y="5105520"/>
            <a:ext cx="19051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91520" y="618660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ina co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ost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19360" y="4571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ran murall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43412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rta de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29000" y="4876920"/>
            <a:ext cx="285768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3960" y="632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f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48Z</dcterms:created>
  <dc:creator>cooperfil</dc:creator>
  <dc:description/>
  <dc:language>en-US</dc:language>
  <cp:lastModifiedBy>cooperfil</cp:lastModifiedBy>
  <dcterms:modified xsi:type="dcterms:W3CDTF">2011-04-14T18:12:29Z</dcterms:modified>
  <cp:revision>6</cp:revision>
  <dc:subject/>
  <dc:title>Las Comidias </dc:title>
</cp:coreProperties>
</file>